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9BE-8922-441D-9E9C-108D4730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2C4-8078-4C55-90BD-3CFEA42F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44A-DA79-4E01-9B0C-9858BE26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42E-BB26-48DA-A52C-069BB9F6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543D-1B1B-4A35-B0B5-7C0F54BA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C818-1F9E-4560-9D05-249AC325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C7EF-1298-421F-A4E1-F7CC3675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890F-AE91-4C85-9573-E5CC4B0A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E87F-72C9-481D-91CF-32DDCD26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8CEC-179F-43C6-A38E-189A15A0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477F-6B0C-413F-8343-23AB8281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778-ECE3-45A4-9FEE-6A297275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5DC9-65BB-430C-BD15-B87C896A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F2EF-86C5-41DF-A9DE-CB7D173F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AF3B-3A70-4D47-940F-C8996267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CF93-816A-4490-8E55-02E13F28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78D2-C850-4B18-A8CA-C26228B3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9C8AA-BD01-40D3-ADB9-EC1D14EB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2B6FC-0210-49CE-B334-93D163E3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DD743-79DC-4F6F-9638-59C5D479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EDB7D-C259-47C6-82F7-2C8DB8CC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7AE6F-0387-4635-9CDE-3BC9E673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DD8-44F1-4AA1-A136-B98F631A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326EB-8240-457E-9974-5E7BCF47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80D2-6017-45F2-9562-85FF0B4A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B7609-E5A2-4E34-A865-8E085764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29E98-83FD-44BB-B12A-5D045E09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587E-0B62-4B77-A673-1DF1E23F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71A93-74D9-4BDF-B128-1ABC2356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FCB46-DA80-4647-A115-52F1EB3F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59306-F447-48D8-9405-1E6C016B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60B49-376B-4FA5-B073-DA525FAE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646FF-E7AE-4232-822B-9FD0E7DF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D02B-F59B-414C-B4EF-04188B3E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C3BFE-2A08-430C-992F-D2EAAE6B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D0EBB-C089-43FE-9FCA-F984807B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C300E-17D2-49AC-9603-9313172D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6A3D4-F548-4EE3-88D5-7F71DB42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8B7DE-332F-4743-8577-BE8298BA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9451F-C5D7-437A-B802-A3D94102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8E583-937A-44DF-BED5-6D6A81BB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8C15B-BF90-43DC-9998-E07EC502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5F528-467D-4A56-90D2-6ACDD163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ECC-761A-44CC-8B50-9A4FAD55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8CB-A186-4348-B2D7-F26E6305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0A6-C128-4DA8-BB99-022384A5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0B6-2ECD-43A3-998A-E5A8493F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0FC-0C8A-41F0-90BD-6AC10F13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97A0-9D54-4411-8A83-F4BF38AD3A1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F4A4-DB6F-46C8-90BA-3E50B54EB9A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DE55-AD26-4275-A557-358E8951C765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2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356A-1BCC-4589-A3E8-4DE26444D8B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fOl7lrNuOnk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d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крипција и транслација-анимација процес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проблемских задата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мацијa транскрипције и трансл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8360" y="2924280"/>
            <a:ext cx="8229600" cy="1296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www.youtube.com/watch?v=fOl7lrNuOn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и део вежб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пробле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х задатака  3.12, 3.14 и 3.15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бирка решених задатака из генетике 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. 20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20:44:24Z</dcterms:created>
  <dc:creator>Olivera Milosevic-Djordjevic</dc:creator>
  <dc:description/>
  <dc:language>en-US</dc:language>
  <cp:lastModifiedBy>Olivera Milošević-Đorđević</cp:lastModifiedBy>
  <dcterms:modified xsi:type="dcterms:W3CDTF">2023-08-28T16:56:30Z</dcterms:modified>
  <cp:revision>136</cp:revision>
  <dc:subject/>
  <dc:title>Функција наследне основе  Репликација, транскрипција, транслација</dc:title>
</cp:coreProperties>
</file>